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D70-A032-45F6-839B-8652E1C2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CE4-1113-4C9A-B331-4DEFF3C1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EAA-A4C1-47D1-A22F-2ECEA9A4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BAC-6BEF-4948-A4BD-0ECDC3A2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EC7-40DE-49D5-86A3-55313A81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4CE-5292-42CA-BB32-A87B1D72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406-B6CE-4B35-9A8C-C96A6F74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7E0-7D0E-4F56-86CD-BE41D75C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F80-0847-4407-8C90-AC03DE6F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DCF-EF6D-4571-B52C-6A2ACB3F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52C-A670-4636-BF00-6FFC0A2E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73E-19C8-44AE-8E63-31F47E8B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2A67-0AB5-435B-BF0C-147B417C25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                        INVERESK  125TH                        KIRKCONNEL  100TH                   THORNHILL  175TH                   BALLANTRAE  125TH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Inveresk 125th.jpg"/>
          <p:cNvPicPr/>
          <p:nvPr/>
        </p:nvPicPr>
        <p:blipFill>
          <a:blip r:embed="rId9">
            <a:lum bright="20000"/>
          </a:blip>
          <a:stretch/>
        </p:blipFill>
        <p:spPr>
          <a:xfrm>
            <a:off x="3584520" y="2349360"/>
            <a:ext cx="954000" cy="8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Kirkconnel 100th.jpg"/>
          <p:cNvPicPr/>
          <p:nvPr/>
        </p:nvPicPr>
        <p:blipFill>
          <a:blip r:embed="rId10"/>
          <a:stretch/>
        </p:blipFill>
        <p:spPr>
          <a:xfrm>
            <a:off x="5097600" y="2060640"/>
            <a:ext cx="1150920" cy="117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Thornhill 175th.jpg"/>
          <p:cNvPicPr/>
          <p:nvPr/>
        </p:nvPicPr>
        <p:blipFill>
          <a:blip r:embed="rId11"/>
          <a:stretch/>
        </p:blipFill>
        <p:spPr>
          <a:xfrm>
            <a:off x="6537240" y="1989000"/>
            <a:ext cx="1352520" cy="1246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Ballanntrae 125th.jpg"/>
          <p:cNvPicPr/>
          <p:nvPr/>
        </p:nvPicPr>
        <p:blipFill>
          <a:blip r:embed="rId12"/>
          <a:stretch/>
        </p:blipFill>
        <p:spPr>
          <a:xfrm>
            <a:off x="8121600" y="1989000"/>
            <a:ext cx="1163520" cy="123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Garnock Valley Ex Pres. 1.jpg"/>
          <p:cNvPicPr/>
          <p:nvPr/>
        </p:nvPicPr>
        <p:blipFill>
          <a:blip r:embed="rId13"/>
          <a:stretch/>
        </p:blipFill>
        <p:spPr>
          <a:xfrm>
            <a:off x="272880" y="3645000"/>
            <a:ext cx="1382760" cy="1360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1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.  PRES.       LARGS  HALKSHILL  125TH                   FAIRLIE  125TH                           FALKIRK  175TH                        CAMPHILL  125TH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3" descr="Fairlie 125th.jpg"/>
          <p:cNvPicPr/>
          <p:nvPr/>
        </p:nvPicPr>
        <p:blipFill>
          <a:blip r:embed="rId14"/>
          <a:stretch/>
        </p:blipFill>
        <p:spPr>
          <a:xfrm>
            <a:off x="3584520" y="3789360"/>
            <a:ext cx="1185840" cy="1216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Falkirk 175th.jpg"/>
          <p:cNvPicPr/>
          <p:nvPr/>
        </p:nvPicPr>
        <p:blipFill>
          <a:blip r:embed="rId15">
            <a:lum bright="20000"/>
          </a:blip>
          <a:stretch/>
        </p:blipFill>
        <p:spPr>
          <a:xfrm>
            <a:off x="5168880" y="3860640"/>
            <a:ext cx="1133640" cy="112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Largs Halkshill 125th.jpg"/>
          <p:cNvPicPr/>
          <p:nvPr/>
        </p:nvPicPr>
        <p:blipFill>
          <a:blip r:embed="rId16"/>
          <a:stretch/>
        </p:blipFill>
        <p:spPr>
          <a:xfrm>
            <a:off x="2000160" y="3500280"/>
            <a:ext cx="1119240" cy="144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Camphill 125th.jpg"/>
          <p:cNvPicPr/>
          <p:nvPr/>
        </p:nvPicPr>
        <p:blipFill>
          <a:blip r:embed="rId17">
            <a:lum bright="20000"/>
          </a:blip>
          <a:stretch/>
        </p:blipFill>
        <p:spPr>
          <a:xfrm>
            <a:off x="6681960" y="3716280"/>
            <a:ext cx="11509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10-11T16:16:39Z</dcterms:modified>
  <cp:revision>122</cp:revision>
  <dc:subject/>
  <dc:title>Slide 1</dc:title>
</cp:coreProperties>
</file>